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580-62A6-4DEE-852D-5A3351E6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C81-044C-4DD5-81CC-10A3096B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2B6-3583-45EE-9113-99BA4A96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3AF-2EA6-4334-9669-F0499149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8075-0AA1-4BCC-8F04-A7579687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2AA0-6C21-44F3-9061-1D2C9CC4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371E-FA3B-4BB7-B624-29C22ED8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714B-4057-4A11-9933-864597D9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8BA6-B21C-4191-81BC-9C2940A2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A2A5-5086-4C33-8256-63F2C27E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889C-EE03-4439-840D-3E5E09A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63C-DA9D-45AB-A950-D3C9C2F4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524D-E435-4DE9-ADFF-DD0C4B01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F165-0A18-47EF-9E13-8A11B77A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848D-5338-4F48-AF24-821E4C6F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D3F3-B0D1-4E18-AAC1-9B5B2818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0BDE-5D9E-4E45-96E2-2A3B49D3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C67A-B732-40E3-9BCD-3F3CCDAF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4006-EC28-493C-8E14-BE7BE086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0323-853E-4D3F-9CC6-4BA6DE24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C318-E057-4BB9-80BE-DD0C3E75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9AB0D-0268-45B6-B6D5-CEBD0FCC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0DE-AEB5-4E8B-A393-E9851A4B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A9B2-ACF7-4B64-A4D1-096EF1EC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93D31-A161-4000-8EE8-FB4D9DBC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21CE-9437-41C0-B479-51440C12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0010C-1D1F-4868-9E59-ED712FB5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2582-3A12-4A6C-B1CE-86C9FEEA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3BFF-D5EC-4A0E-8202-44DF4A7D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F5ED-6CE8-49D7-938B-5D6B5613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2827-B752-49CD-9315-98E955CB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5456E-43FE-4976-86BF-794CAC06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8659-F162-4A07-98AC-77BD80E2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02E-3E45-48D1-9F8F-FC97FA47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2F9D-8FD5-46A1-B103-A72BCBA4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DD7CD-35C8-4B62-B3DA-D6621342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AEFC3-872A-4162-A855-D6101377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61EB-705E-4EDD-B725-AD892AD2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3567-7934-4F1D-9AD4-4805BF89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421B-DF27-4AC5-93A2-C7E79A76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8BA44-8147-4432-952B-D4893F7D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670D-2CA3-4804-B00D-DB2276E5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52E15-A9A9-4BD5-AEB3-A06DCB93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F8BA5-7573-4D7B-9FF3-E4086BF9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063-EF5D-4D60-BD14-4379D2B5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86E79-E511-45B0-AF52-2DDED75F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44007-8401-45B3-854D-30E51F75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787BF-1EF9-44D0-99B6-271C7B69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42D07-E0DB-4B1C-8129-6E639AE0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6F6D4-5385-44BA-AB2A-325E856B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F54C-8DFA-4D74-9BBC-222FA41B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8B2DD-80F6-4D33-BE9A-9716F46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BEA04-D37C-4DCC-A19D-98A6CD38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ABC69-8861-4CF9-B565-7B424475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3C560-EE95-42AA-8F99-35E5F742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0CF-4554-4BB4-B7DD-3DA30495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77D08-573A-456E-B08F-1EB71340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FF1EF-DF75-4BAA-B9D2-FE623EF2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92D3-E57C-48EE-A500-CBA0CCB9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05775-FAEE-4CCD-A108-A41B143F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7401-5161-4A58-8FE5-6827AE92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A8A4D-62F4-4A5A-967E-53B29F2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C543-2C2E-4FD5-825E-88238A21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5D33F-A43E-46CA-B763-2696040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77779-6C71-480F-86FD-54A1183F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0DFBE-01BF-47D9-835D-E055D68F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571-11A5-4793-9738-092AC499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A6996-7373-4D14-8597-25989F3E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A5E8B-44A5-4BAC-8F61-6F8A007B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51CDD-A891-4BF2-9DBE-B34F5AC8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AC826-4A13-4560-B416-58BE68E0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E2234-336E-471F-ABD0-45B68D2D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1F9F2-9B24-46AC-8C54-D7DF7B50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B9C0C-0FFF-445D-841F-72C3550B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64128-E797-4804-9D2B-EC2AFB2C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B32F6-6C66-47BA-A55C-3B221E9F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2BB89-2BDD-4E8A-9AB1-075F6F28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17E-5BBB-4562-BE98-5C9C114E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BC0E2-F2F1-4983-B1E3-37E97CAE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8DA49-D2F0-445A-96A3-59CB25C7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EF345-B626-4DCB-81EF-36868F17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4093B-141B-423B-9F73-30AAC70E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D5BA1-F1CC-4DBA-8E46-CE6C1366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9DD-871B-4B68-A82F-21063C9B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7813-E75C-42FA-8558-6898E7505F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48B7-9C57-4739-B017-FB7535C5C72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EFDE-5E64-4CBD-80F6-E48EBD4A1B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9A2A-FBB9-4C71-8AA4-47D0CBA14E4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9E13-2C71-4B92-8BB5-A842FA5E4D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918A-9BE3-4D3A-A30C-F118773002A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4EF6-C4AC-4AB4-A76C-9C0506C4D5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History Influences Tex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American Romantici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manticism vs. Rationalism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uition versus calcu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otion versus reas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ontaneity versus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vidualism versus social o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derness versus indust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jective experience versus objective fa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aphysical musing versus scientific resear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Content Placeholder 4" descr="(rom5) durand.jpg"/>
          <p:cNvPicPr/>
          <p:nvPr/>
        </p:nvPicPr>
        <p:blipFill>
          <a:blip r:embed="rId1"/>
          <a:stretch/>
        </p:blipFill>
        <p:spPr>
          <a:xfrm>
            <a:off x="5676840" y="2060640"/>
            <a:ext cx="28576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nscendentalis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35160" indent="-335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eveloped from Romantic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160" indent="-33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160" indent="-335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Transcendental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fers to the idea that one must transcend everyday human experience in the physical world in order to find Spiritualit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160" indent="-33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160" indent="-335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Transce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to rise above or extend notably beyond ordinary lim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160" indent="-335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idea that in determining the ultimate reality of God, the universe, the self, and other important matters, one must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ce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or go beyond, everyday human experience in the physical wor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What did Transcendentalists believe?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n individual could perfect himself or herself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erything in the whole world, including human beings, is part of the Divine Sou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276880" y="1523520"/>
            <a:ext cx="3657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physical facts of the world are only a doorway into the spiritual wor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ople must use their intuition and senses to behold the Divine Spirit and their own soul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hat else did Transcendentalists believe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cendentalists did not believe in following authority without ques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y resisted blind conformity to traditions, customs, and religious dogm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ranscendentalist believed in individuality and sought solitude and time alone in natur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Picture 6" descr="suffragetttes"/>
          <p:cNvPicPr/>
          <p:nvPr/>
        </p:nvPicPr>
        <p:blipFill>
          <a:blip r:embed="rId1"/>
          <a:stretch/>
        </p:blipFill>
        <p:spPr>
          <a:xfrm>
            <a:off x="3657600" y="4724280"/>
            <a:ext cx="1119240" cy="1263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MLK"/>
          <p:cNvPicPr/>
          <p:nvPr/>
        </p:nvPicPr>
        <p:blipFill>
          <a:blip r:embed="rId2"/>
          <a:stretch/>
        </p:blipFill>
        <p:spPr>
          <a:xfrm>
            <a:off x="1447920" y="4557600"/>
            <a:ext cx="1228680" cy="952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hippies"/>
          <p:cNvPicPr/>
          <p:nvPr/>
        </p:nvPicPr>
        <p:blipFill>
          <a:blip r:embed="rId3"/>
          <a:stretch/>
        </p:blipFill>
        <p:spPr>
          <a:xfrm>
            <a:off x="6095880" y="4724280"/>
            <a:ext cx="129564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What genres of text did the Transcendentalist write?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They preferred to writ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Gill Sans MT"/>
              </a:rPr>
              <a:t>personal narratives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They told the story of their own experiences when in nature and alone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They wrote of their individualism and their profound belief that humans were born good and should seek to perfect themselves throughout their liv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They used imagery, figurative language and rich description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Ralph Waldo Emerson and Henry David Thoreau are famous transcendentalist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098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2314"/>
                </a:solidFill>
                <a:latin typeface="Gill Sans MT"/>
              </a:rPr>
              <a:t>THE DARK ROMANTICS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dgar Allen Poe, Hawthorne,  and Melville are known as anti-Transcendentalists but had much in common with Transcendentalist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ored conflicts between good and evil, psychological effects of guilt and sin, and madn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ke other Romantics, valued intuition over logic and reas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ke other Romantics, saw signs and symbols in all ev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like other Romantics, did not believe that nature is good or harml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ored the conflict between good and evil, the psychological effects of guilt and sin, and even madnes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w the horror of evil behind the thin façade of respectable socie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Content Placeholder 4" descr="(rom8) Fuseli-Nightmare.jpg"/>
          <p:cNvPicPr/>
          <p:nvPr/>
        </p:nvPicPr>
        <p:blipFill>
          <a:blip r:embed="rId1"/>
          <a:stretch/>
        </p:blipFill>
        <p:spPr>
          <a:xfrm>
            <a:off x="3048120" y="4114800"/>
            <a:ext cx="3097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imed Writing: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re You Rationalist or Romantic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 you, personally, relate more closely to the values of the Rationalists or of the Romantics?  Give specific examples of political / philosophical assumptions that you share with the group you identif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2" descr="C:\Users\Stephen\AppData\Local\Microsoft\Windows\Temporary Internet Files\Content.IE5\XKFOFSSB\MCBD19612_0000[1].wmf"/>
          <p:cNvPicPr/>
          <p:nvPr/>
        </p:nvPicPr>
        <p:blipFill>
          <a:blip r:embed="rId1"/>
          <a:stretch/>
        </p:blipFill>
        <p:spPr>
          <a:xfrm>
            <a:off x="5410080" y="1670040"/>
            <a:ext cx="3492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merican Romantic Period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(1800 – 1860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6668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times called the American Renaissa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ever, Renaissance means “rebirth” and the American Renaissance was not the rebirth of an old style; it was a completely new, uniquely American sty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uthors were mature, innovative, and optimistic about America and individualis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Content Placeholder 6" descr="Bierstadt_LandersPeak_1863 (rom1).jpg"/>
          <p:cNvPicPr/>
          <p:nvPr/>
        </p:nvPicPr>
        <p:blipFill>
          <a:blip r:embed="rId1"/>
          <a:stretch/>
        </p:blipFill>
        <p:spPr>
          <a:xfrm>
            <a:off x="2438280" y="4100400"/>
            <a:ext cx="41911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alues of American Romanticis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erished imagination, individual feelings, and wild natur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ld a realistic view of the dark side of the human spiri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flected strong national pri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lieved that the individual, no matter what background or class, was to be respected for his/her personal, and unlimited, accomplishm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Content Placeholder 4" descr="(rom2) Asher_Durand_Kindred_Spirits.jpg"/>
          <p:cNvPicPr/>
          <p:nvPr/>
        </p:nvPicPr>
        <p:blipFill>
          <a:blip r:embed="rId1"/>
          <a:stretch/>
        </p:blipFill>
        <p:spPr>
          <a:xfrm>
            <a:off x="5533920" y="1523880"/>
            <a:ext cx="31435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94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merican Romanticism was a response to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404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grime and noise of the industrial 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direct contact of the population with the American wildern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wing conflict among the people regarding slave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men’s push toward equality with 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 audience of readers hungry for literature that was purely Americ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Content Placeholder 4" descr="(rom4) Cole_course_of_empire_pastoral.jpg"/>
          <p:cNvPicPr/>
          <p:nvPr/>
        </p:nvPicPr>
        <p:blipFill>
          <a:blip r:embed="rId1"/>
          <a:stretch/>
        </p:blipFill>
        <p:spPr>
          <a:xfrm>
            <a:off x="2438280" y="4191120"/>
            <a:ext cx="40388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The Progression of American Thought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OMANTICS WERE DISTINCT FROM PREVIOUS AMERICANS 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YET, INFLUENCED BY THESE SAME GROUPS OF AMERICAN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saw themselves as revolting against the “Age of Reason” and its valu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ism rejected fiery Puritan rhetoric about religion, guilt, and salva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6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7000"/>
          </a:bodyPr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were moved by powerful Rationalist rhetoric about the rights of the individual and freedo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searched for truth and beauty in ordinary objects or scenes, like the Puritan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572314"/>
                </a:solidFill>
                <a:latin typeface="Gill Sans MT"/>
              </a:rPr>
              <a:t>The Voyage of Life: Childhood</a:t>
            </a: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Thomas Cole, 1840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Content Placeholder 3" descr="(rom9) Cole_Thomas_The_Voyage_of_Life_Childhood_1842.jpg"/>
          <p:cNvPicPr/>
          <p:nvPr/>
        </p:nvPicPr>
        <p:blipFill>
          <a:blip r:embed="rId1"/>
          <a:stretch/>
        </p:blipFill>
        <p:spPr>
          <a:xfrm>
            <a:off x="1549440" y="1447920"/>
            <a:ext cx="727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86360" y="1066680"/>
            <a:ext cx="27432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The Voyage of Life: Childhood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Thomas Cole, 1840 </a:t>
            </a:r>
            <a:br>
              <a:rPr sz="2400"/>
            </a:b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(detail)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7" name="Picture Placeholder 12" descr="(rom9) Cole_Thomas_The_Voyage_of_Life_Childhood_1842.jpg"/>
          <p:cNvPicPr/>
          <p:nvPr/>
        </p:nvPicPr>
        <p:blipFill>
          <a:blip r:embed="rId1"/>
          <a:stretch/>
        </p:blipFill>
        <p:spPr>
          <a:xfrm>
            <a:off x="841320" y="1243080"/>
            <a:ext cx="4419720" cy="33163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Gill Sans MT"/>
              </a:rPr>
              <a:t>How does this painting depict childhood.  Consider both what it shows (denotation) and what it implies (connotation).  You have five minutes to write.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Characteristics of Romantic text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assionate and emotion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ntiment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metimes deal with the supernatu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aracters are often larger-than-life and aristocratic—sometimes stock characters are us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stinctions between upper and lower class charac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lloquial language and setting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Content Placeholder 10" descr="(rom6) Cole.jpg"/>
          <p:cNvPicPr/>
          <p:nvPr/>
        </p:nvPicPr>
        <p:blipFill>
          <a:blip r:embed="rId1"/>
          <a:stretch/>
        </p:blipFill>
        <p:spPr>
          <a:xfrm>
            <a:off x="5346720" y="1523880"/>
            <a:ext cx="3517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ore characteristics of Romantic tex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Content Placeholder 8" descr="(rom8) Simmonds_Ophelia.jpg"/>
          <p:cNvPicPr/>
          <p:nvPr/>
        </p:nvPicPr>
        <p:blipFill>
          <a:blip r:embed="rId1"/>
          <a:stretch/>
        </p:blipFill>
        <p:spPr>
          <a:xfrm>
            <a:off x="1219320" y="144792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ten written in third-person omniscient with the author/narrator interrupting to moralize or guide the read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nse, with strong rising action leading to a dramatic clim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mbolic, allegoric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w life as it might have been or might be rather than average life as it was during the author’s life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7:14:46Z</dcterms:created>
  <dc:creator>Carrie Danielson</dc:creator>
  <dc:description/>
  <dc:language>en-US</dc:language>
  <cp:lastModifiedBy>michelle.clark-cadwe</cp:lastModifiedBy>
  <dcterms:modified xsi:type="dcterms:W3CDTF">2014-01-15T18:12:49Z</dcterms:modified>
  <cp:revision>30</cp:revision>
  <dc:subject/>
  <dc:title>Historical Influence on Tex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